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A6F-4CF4-402B-8828-D1974017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D67-55B0-4F39-92E3-38FF267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EE7-1650-4778-890C-5EDA9A83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4D1-B5AD-41FD-852F-C194F4B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460-E364-4480-8542-E03FCFCD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6EF-9246-4183-9636-3FED223E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B03-A24D-49E7-99CC-887EC8F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412-8DC7-41E8-8282-F365899C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7F9-CAF2-48FD-B9FA-7F6D553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556-D6D5-4245-A405-BC03673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202-5E5B-448A-989F-738A59A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D23-F11A-43A4-B0BD-875119A6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9F8-4B53-414E-8C53-3F2945A3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etchup.google.com/" TargetMode="External"/><Relationship Id="rId2" Type="http://schemas.openxmlformats.org/officeDocument/2006/relationships/hyperlink" Target="mailto:jc@shatincollege.edu.hk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ear 7 Homework Tas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7 To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have designed your idea on paper trial it using Google Sketchup and animate it. (Download it for f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see examples of ideas and animations on the following pa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around with Google Sketchup its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tart with Sketch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lour you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animate a Sketchup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xport a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nvert from avi to mpeg1 and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ter downloading Sketchup, look through the tutorials, and try drawing some simple 3D shapes, don’t forget to remove the 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he views buttons to check how things look from different a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5447" r="43125" b="86003"/>
          <a:stretch/>
        </p:blipFill>
        <p:spPr>
          <a:xfrm>
            <a:off x="152280" y="5257800"/>
            <a:ext cx="89154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30625" t="56002" r="60627" b="21999"/>
          <a:stretch/>
        </p:blipFill>
        <p:spPr>
          <a:xfrm>
            <a:off x="7924680" y="2666880"/>
            <a:ext cx="7272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660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around the object, side view, plan view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the object, and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952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objec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800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3D, select face, rotate, round off e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ouring your torch design is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the paint bucket and select the material you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the paint bucket, click your model, you will need to select each face to colour the whole of your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ant to change the colour of the material, once you have coloured the model, select Edit and change the col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250" t="3000" r="75002" b="60003"/>
          <a:stretch/>
        </p:blipFill>
        <p:spPr>
          <a:xfrm>
            <a:off x="1447920" y="3581280"/>
            <a:ext cx="253368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3657600"/>
            <a:ext cx="1067040" cy="68580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181480"/>
            <a:ext cx="685800" cy="38124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24080" y="5714640"/>
            <a:ext cx="1447920" cy="304920"/>
          </a:xfrm>
          <a:prstGeom prst="line">
            <a:avLst/>
          </a:prstGeom>
          <a:ln w="5076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7040" y="589752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hoose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nimate a Sketchup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tch a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view, animation, add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orbit tool (tool to navigate around the screen) and travel around showing the view you want to anim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got that view click.. view, animation, add scene carry on until you have all the animation you requi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l it… view , animation, play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0" t="3000" r="76968" b="47003"/>
          <a:stretch/>
        </p:blipFill>
        <p:spPr>
          <a:xfrm>
            <a:off x="6629400" y="2362320"/>
            <a:ext cx="242244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34320" y="2286000"/>
            <a:ext cx="685800" cy="38088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4267080"/>
            <a:ext cx="2133720" cy="53352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you can mess with it and refine i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view, animation, settings and change the scene transition times and interval between scenes, you can make it seamless Virtual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export: file, export, animation it exports as an .avi file which can be played in real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ring .avi to mpeg1 , this can be used in Power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load WM converter (free) and easily convert .avi (also Animoto or .flv files (flash video) files to mpeg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into a PowerPoint and away you go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ome examples by Year 7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0880" y="1600200"/>
            <a:ext cx="267156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0880" y="4213080"/>
            <a:ext cx="267336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38098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Karan Kanwar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4310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Mike Liu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8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17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ll Done Year 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ketchup is very easy to use and great fun to play around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download it free by going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ketchup.google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the work to me or bring it on a memory stick (thumb dr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c@shatincollege.edu.h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33:17Z</dcterms:created>
  <dc:creator>Sha Tin College</dc:creator>
  <dc:description/>
  <dc:language>en-US</dc:language>
  <cp:lastModifiedBy>Sha Tin College</cp:lastModifiedBy>
  <dcterms:modified xsi:type="dcterms:W3CDTF">2007-11-28T06:47:43Z</dcterms:modified>
  <cp:revision>17</cp:revision>
  <dc:subject/>
  <dc:title>Year 7</dc:title>
</cp:coreProperties>
</file>