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FEB-C44B-4224-99BC-53DB87F0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AA4-2A34-44B0-8BC8-B72550CD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FE5-BBC0-4116-B841-FB224FD1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5A7-2923-41CE-B980-6CA6B6F1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C51-07E0-4214-B9F0-FB11CFF6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F03-412B-4237-90FB-55602C1D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802-1D11-4C5F-855A-8053571D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924-E147-4E4F-B6D3-6C7D1E70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F60-3094-4CA1-9FE4-A3BDF143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092-DD8B-4CB1-AFA5-E2B8F6D1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AB2-E9E0-4303-BBC4-EB84CB3F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A42-7BE8-4BDE-A489-CC66146A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6CDF-BFB6-4E7E-8566-64CE386C0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ketchup.google.com/" TargetMode="External"/><Relationship Id="rId2" Type="http://schemas.openxmlformats.org/officeDocument/2006/relationships/hyperlink" Target="mailto:jc@shatincollege.edu.hk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ear 7 Homework Tas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rch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7 Torc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have designed your idea on paper trial it using Google Sketchup and animate it. (Download it for fre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see examples of ideas and animations on the following page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 around with Google Sketchup its fu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start with Sketch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olour your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animate a Sketchup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export a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onvert from avi to mpeg1 and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ter downloading Sketchup, look through the tutorials, and try drawing some simple 3D shapes, don’t forget to remove the 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e the views buttons to check how things look from different ang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5447" r="43125" b="86003"/>
          <a:stretch/>
        </p:blipFill>
        <p:spPr>
          <a:xfrm>
            <a:off x="152280" y="5257800"/>
            <a:ext cx="891540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30625" t="56002" r="60627" b="21999"/>
          <a:stretch/>
        </p:blipFill>
        <p:spPr>
          <a:xfrm>
            <a:off x="7924680" y="2666880"/>
            <a:ext cx="727200" cy="106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660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around the object, side view, plan view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638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the object, and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952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w objec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800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3D, select face, rotate, round off e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louring your torch design is ea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the paint bucket and select the material you want to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ing the paint bucket, click your model, you will need to select each face to colour the whole of your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you want to change the colour of the material, once you have coloured the model, select Edit and change the col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6250" t="3000" r="75002" b="60003"/>
          <a:stretch/>
        </p:blipFill>
        <p:spPr>
          <a:xfrm>
            <a:off x="1447920" y="3581280"/>
            <a:ext cx="2533680" cy="3124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24080" y="3657600"/>
            <a:ext cx="1067040" cy="68580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5181480"/>
            <a:ext cx="685800" cy="38124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124080" y="5714640"/>
            <a:ext cx="1447920" cy="304920"/>
          </a:xfrm>
          <a:prstGeom prst="line">
            <a:avLst/>
          </a:prstGeom>
          <a:ln w="5076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7040" y="589752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hoose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662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animate a Sketchup i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etch an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 to view, animation, add sc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the orbit tool (tool to navigate around the screen) and travel around showing the view you want to anim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got that view click.. view, animation, add scene carry on until you have all the animation you requir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l it… view , animation, play sc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-620" t="3000" r="76968" b="47003"/>
          <a:stretch/>
        </p:blipFill>
        <p:spPr>
          <a:xfrm>
            <a:off x="6629400" y="2362320"/>
            <a:ext cx="242244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934320" y="2286000"/>
            <a:ext cx="685800" cy="38088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4267080"/>
            <a:ext cx="2133720" cy="53352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you can mess with it and refine i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view, animation, settings and change the scene transition times and interval between scenes, you can make it seamless Virtual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export: file, export, animation it exports as an .avi file which can be played in real play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ring .avi to mpeg1 , this can be used in Power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load WM converter (free) and easily convert .avi (also Animoto or .flv files (flash video) files to mpeg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into a PowerPoint and away you go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ome examples by Year 7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0880" y="1600200"/>
            <a:ext cx="267156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0880" y="4213080"/>
            <a:ext cx="2673360" cy="2187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57800" y="380988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ketchup animation by Karan Kanwar Y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64310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ketchup animation by Mike Liu Y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2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8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172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ell Done Year 7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Sketchup is very easy to use and great fun to play around wi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download it free by going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sketchup.google.co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ail the work to me or bring it on a memory stick (thumb dr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jc@shatincollege.edu.h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2:33:17Z</dcterms:created>
  <dc:creator>Sha Tin College</dc:creator>
  <dc:description/>
  <dc:language>en-US</dc:language>
  <cp:lastModifiedBy>Sha Tin College</cp:lastModifiedBy>
  <dcterms:modified xsi:type="dcterms:W3CDTF">2007-11-28T06:47:43Z</dcterms:modified>
  <cp:revision>17</cp:revision>
  <dc:subject/>
  <dc:title>Year 7</dc:title>
</cp:coreProperties>
</file>