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524-C60F-4FEA-8501-2A553B5D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DB8-63F4-4F89-883E-49C3D5E3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D1A-8019-413D-8CCF-7458019A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A5B-06A6-4685-8C25-A9A4DC16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7DC-847F-423C-8EB4-5AD09FDB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258-8B62-4AEC-B36D-C2EAC93F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4A7-B1ED-4911-8976-0E4B64C6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2FF-A8AC-4E0F-8ACB-3EAC2846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236-4637-4F0B-8561-2DC8F49F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799-16F3-45EE-A701-74EF4485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B4B-EF47-4EB4-A306-0E097AC9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DB6-791A-4E08-9CE6-0BFD95BE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017A-EE16-41B8-BE38-511DBF53D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mochromic Liquid Crys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– normally black below 1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48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1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54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66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60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cc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66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cc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72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mperature range - 2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200400"/>
            <a:ext cx="5790960" cy="1295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429000" y="3733920"/>
            <a:ext cx="2612880" cy="3047760"/>
            <a:chOff x="3429000" y="3733920"/>
            <a:chExt cx="2612880" cy="3047760"/>
          </a:xfrm>
        </p:grpSpPr>
        <p:sp>
          <p:nvSpPr>
            <p:cNvPr id="78" name=""/>
            <p:cNvSpPr/>
            <p:nvPr/>
          </p:nvSpPr>
          <p:spPr>
            <a:xfrm>
              <a:off x="4354560" y="3962160"/>
              <a:ext cx="38088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3429000" y="3733920"/>
              <a:ext cx="2612880" cy="3047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rmocolour Film Produc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566" t="6330" r="1377" b="8220"/>
          <a:stretch/>
        </p:blipFill>
        <p:spPr>
          <a:xfrm>
            <a:off x="1862280" y="1219320"/>
            <a:ext cx="545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0:34:02Z</dcterms:created>
  <dc:creator>Sha Tin College</dc:creator>
  <dc:description/>
  <dc:language>en-US</dc:language>
  <cp:lastModifiedBy>Sha Tin College</cp:lastModifiedBy>
  <dcterms:modified xsi:type="dcterms:W3CDTF">2007-11-23T01:23:04Z</dcterms:modified>
  <cp:revision>5</cp:revision>
  <dc:subject/>
  <dc:title>Thermocolour Film</dc:title>
</cp:coreProperties>
</file>