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7B0-1438-48D9-B4B6-6D36DD58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9C9-37B1-416B-9EAA-EDE4DB0A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C4E-A0AC-4ED5-9434-223004B9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AFA-E629-4B3E-974C-C4CD06C7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CD4-5728-42A6-8DA6-241FA5FC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F9C-7107-44BC-9395-54FFD92A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0F8-77BD-4E75-A389-AE1AAE5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47C-41D9-4DED-9E85-8C3F1290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E03-804D-4FCE-B8FD-36FEFF2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A0F-4B88-4977-936E-07D412E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19E-A5FB-45D8-9C4E-C7C69FF8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115-9709-4D1A-8534-92B9B18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94C-0570-43F9-8907-7A68D99A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ochromic Liquid 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– normally black below 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4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1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54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0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6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2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 Produ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566" t="6330" r="1377" b="8220"/>
          <a:stretch/>
        </p:blipFill>
        <p:spPr>
          <a:xfrm>
            <a:off x="1862280" y="1219320"/>
            <a:ext cx="545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0:34:02Z</dcterms:created>
  <dc:creator>Sha Tin College</dc:creator>
  <dc:description/>
  <dc:language>en-US</dc:language>
  <cp:lastModifiedBy>Sha Tin College</cp:lastModifiedBy>
  <dcterms:modified xsi:type="dcterms:W3CDTF">2007-11-23T01:23:04Z</dcterms:modified>
  <cp:revision>5</cp:revision>
  <dc:subject/>
  <dc:title>Thermocolour Film</dc:title>
</cp:coreProperties>
</file>