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98BD-3F28-4C46-AEB7-1299259B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D77C-F04F-4F7B-9296-34D07663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1608-3F24-4CB4-86CB-74EF635C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77C8-251F-4EFE-9347-0DF96349A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6FC9-AA2E-4B80-A2ED-5842912B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43D1-2017-479A-A25B-08696C4D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1CFF-A2C1-48DE-A39F-01B1243F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2AC1-E923-4ADA-BC71-20A71290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05CF-5E0F-4AE3-9261-ECC478E5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C3DC-B7ED-4AC0-8BA5-DA43358F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82B1-0629-4A31-A2F7-27A83F6A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F8EC-653B-4300-85F4-46563611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273A-A151-48F7-9ACA-1AC3F7A29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rmocolour Fil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mochromic Liquid Crys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rmocolour Fil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emperature range – normally black below 16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°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3200400"/>
            <a:ext cx="579096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429000" y="3733920"/>
            <a:ext cx="2612880" cy="3047760"/>
            <a:chOff x="3429000" y="3733920"/>
            <a:chExt cx="2612880" cy="3047760"/>
          </a:xfrm>
        </p:grpSpPr>
        <p:sp>
          <p:nvSpPr>
            <p:cNvPr id="48" name=""/>
            <p:cNvSpPr/>
            <p:nvPr/>
          </p:nvSpPr>
          <p:spPr>
            <a:xfrm>
              <a:off x="4354560" y="3962160"/>
              <a:ext cx="380880" cy="6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3429000" y="3733920"/>
              <a:ext cx="2612880" cy="3047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rmocolour 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emperature range - 19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°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200400"/>
            <a:ext cx="5790960" cy="1295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cc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429000" y="3733920"/>
            <a:ext cx="2612880" cy="3047760"/>
            <a:chOff x="3429000" y="3733920"/>
            <a:chExt cx="2612880" cy="3047760"/>
          </a:xfrm>
        </p:grpSpPr>
        <p:sp>
          <p:nvSpPr>
            <p:cNvPr id="54" name=""/>
            <p:cNvSpPr/>
            <p:nvPr/>
          </p:nvSpPr>
          <p:spPr>
            <a:xfrm>
              <a:off x="4354560" y="3962160"/>
              <a:ext cx="380880" cy="6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429000" y="3733920"/>
              <a:ext cx="2612880" cy="3047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4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rmocolour 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emperature range - 2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°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3200400"/>
            <a:ext cx="5790960" cy="1295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66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429000" y="3733920"/>
            <a:ext cx="2612880" cy="3047760"/>
            <a:chOff x="3429000" y="3733920"/>
            <a:chExt cx="2612880" cy="3047760"/>
          </a:xfrm>
        </p:grpSpPr>
        <p:sp>
          <p:nvSpPr>
            <p:cNvPr id="60" name=""/>
            <p:cNvSpPr/>
            <p:nvPr/>
          </p:nvSpPr>
          <p:spPr>
            <a:xfrm>
              <a:off x="4354560" y="3962160"/>
              <a:ext cx="380880" cy="6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3429000" y="3733920"/>
              <a:ext cx="2612880" cy="3047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4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rmocolour 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emperature range - 2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°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3200400"/>
            <a:ext cx="5790960" cy="1295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cc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429000" y="3733920"/>
            <a:ext cx="2612880" cy="3047760"/>
            <a:chOff x="3429000" y="3733920"/>
            <a:chExt cx="2612880" cy="3047760"/>
          </a:xfrm>
        </p:grpSpPr>
        <p:sp>
          <p:nvSpPr>
            <p:cNvPr id="66" name=""/>
            <p:cNvSpPr/>
            <p:nvPr/>
          </p:nvSpPr>
          <p:spPr>
            <a:xfrm>
              <a:off x="4354560" y="3962160"/>
              <a:ext cx="380880" cy="6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3429000" y="3733920"/>
              <a:ext cx="2612880" cy="3047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4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rmocolour 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emperature range - 25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°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3200400"/>
            <a:ext cx="5790960" cy="1295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cc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29000" y="3733920"/>
            <a:ext cx="2612880" cy="3047760"/>
            <a:chOff x="3429000" y="3733920"/>
            <a:chExt cx="2612880" cy="3047760"/>
          </a:xfrm>
        </p:grpSpPr>
        <p:sp>
          <p:nvSpPr>
            <p:cNvPr id="72" name=""/>
            <p:cNvSpPr/>
            <p:nvPr/>
          </p:nvSpPr>
          <p:spPr>
            <a:xfrm>
              <a:off x="4354560" y="3962160"/>
              <a:ext cx="380880" cy="6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3429000" y="3733920"/>
              <a:ext cx="2612880" cy="3047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rmocolour 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emperature range - 2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°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3200400"/>
            <a:ext cx="5790960" cy="1295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429000" y="3733920"/>
            <a:ext cx="2612880" cy="3047760"/>
            <a:chOff x="3429000" y="3733920"/>
            <a:chExt cx="2612880" cy="3047760"/>
          </a:xfrm>
        </p:grpSpPr>
        <p:sp>
          <p:nvSpPr>
            <p:cNvPr id="78" name=""/>
            <p:cNvSpPr/>
            <p:nvPr/>
          </p:nvSpPr>
          <p:spPr>
            <a:xfrm>
              <a:off x="4354560" y="3962160"/>
              <a:ext cx="380880" cy="6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3429000" y="3733920"/>
              <a:ext cx="2612880" cy="3047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rmocolour Film Produc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1566" t="6330" r="1377" b="8220"/>
          <a:stretch/>
        </p:blipFill>
        <p:spPr>
          <a:xfrm>
            <a:off x="1862280" y="1219320"/>
            <a:ext cx="5452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0:34:02Z</dcterms:created>
  <dc:creator>Sha Tin College</dc:creator>
  <dc:description/>
  <dc:language>en-US</dc:language>
  <cp:lastModifiedBy>Sha Tin College</cp:lastModifiedBy>
  <dcterms:modified xsi:type="dcterms:W3CDTF">2007-11-23T01:23:04Z</dcterms:modified>
  <cp:revision>5</cp:revision>
  <dc:subject/>
  <dc:title>Thermocolour Film</dc:title>
</cp:coreProperties>
</file>