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821-5EC9-4F41-96EF-2E49EC5F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9DC-D271-425A-8832-468D0AD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D28-02EA-44FB-978D-DCDCE1B1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E86-6D9C-4820-ABD1-DEB35043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BBE-306C-4F3A-81F3-101FF9A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D6A-B1BA-4281-8CF3-A32D33D8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7AB-8ACF-4422-90D8-FF4C68F7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E8D-E5CE-490B-BB3C-BA5735E1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0B6-4BE0-4693-BF2D-9A1C5C48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040-90EA-4067-B042-C283F96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AFF-30F5-4024-9DBB-47C03E0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216-2DB3-425D-B28A-872DBDC3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6D41-0CA2-4A35-B09B-5F4FCD820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mochromic Liquid Crys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– normally black below 1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48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1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54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66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60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66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cc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72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78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 Produc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566" t="6330" r="1377" b="8220"/>
          <a:stretch/>
        </p:blipFill>
        <p:spPr>
          <a:xfrm>
            <a:off x="1862280" y="1219320"/>
            <a:ext cx="545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0:34:02Z</dcterms:created>
  <dc:creator>Sha Tin College</dc:creator>
  <dc:description/>
  <dc:language>en-US</dc:language>
  <cp:lastModifiedBy>Sha Tin College</cp:lastModifiedBy>
  <dcterms:modified xsi:type="dcterms:W3CDTF">2007-11-23T01:23:04Z</dcterms:modified>
  <cp:revision>5</cp:revision>
  <dc:subject/>
  <dc:title>Thermocolour Film</dc:title>
</cp:coreProperties>
</file>