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mart Material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61531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material: T. Ford January 2005 Updated: JC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part of this document may be reproduced without permis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20160" y="5848200"/>
            <a:ext cx="868320" cy="87012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16765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) Shape memory alloy will go back to its original shape when it is warmed to which temperatu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952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00 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5029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30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70 ‘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50’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666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eez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685800" y="35812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4114800" y="35812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7315200" y="35053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4114800" y="5562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685800" y="5562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7315200" y="5562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) The word ‘Thermoplastic’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5909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plastic which never goes 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243828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plastic which hardens when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5909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plastic which goes soft when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4419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6781680" y="4419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1371600" y="4419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) The letters ‘Q.T.C.’ stand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5909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ntum Tunnelling 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4038480" y="4419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6781680" y="4419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1371600" y="4419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590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lity Tunnelling 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5909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ntum Tuning Com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16765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) When the QTC material is used as a switch in an electrical circuit and is subjected to pressure,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1624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comes a great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1219320" y="441972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086600" y="4419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4114800" y="4419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21624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comes a great ins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216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comes 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16765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) Which of these smart materials would you find in the switch of a kett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lymor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895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rmochromic 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895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nticular 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4038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hape memory al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2971800" y="38098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010280" y="38098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4876920" y="541008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114300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762120" y="609480"/>
            <a:ext cx="7694640" cy="4494240"/>
            <a:chOff x="762120" y="609480"/>
            <a:chExt cx="7694640" cy="4494240"/>
          </a:xfrm>
        </p:grpSpPr>
        <p:sp>
          <p:nvSpPr>
            <p:cNvPr id="145" name=""/>
            <p:cNvSpPr/>
            <p:nvPr/>
          </p:nvSpPr>
          <p:spPr>
            <a:xfrm>
              <a:off x="762120" y="609480"/>
              <a:ext cx="7694640" cy="4494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20" y="1803960"/>
              <a:ext cx="769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How well did you do ?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541008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out of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he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220968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or 11 out of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he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53341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,6 or 7 out of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he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or 9 out of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he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133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2,3or 4 out of 1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he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533520" y="373392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73392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53352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572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243828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838080"/>
            <a:ext cx="3886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llseye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’s a perfect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have learned everything you need top know about smart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do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095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endshow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48320" y="6095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33520"/>
            <a:ext cx="3657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am dun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have learned a great deal of important information about smart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the questions you got wrong and go over those sections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27194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endshow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48320" y="5334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he quiz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57200"/>
            <a:ext cx="35053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’ve pass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’s a reasonable score but you should be getting a couple more questions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which questions you got wrong. Revise the topics again and have another go at the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497560" y="1752480"/>
            <a:ext cx="2098800" cy="2743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229600" y="5257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6095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endshow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st your knowledge of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mart Material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1397160"/>
            <a:ext cx="6096240" cy="406368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90920" y="1828800"/>
            <a:ext cx="4002120" cy="40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457200"/>
            <a:ext cx="36576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mmm….That score should be high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topics did you lose marks 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 back to the home page and read those topics again then retry the test. Aim to improve your score by three ma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343400" y="1103400"/>
            <a:ext cx="4343400" cy="3484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648320" y="5334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he quiz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29600" y="5257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6095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endshow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838080"/>
            <a:ext cx="32763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 good sco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target is to get at least half marks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the topics again and try the test. If you score at least 5 out of ten then you have improved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your teacher if you need some help with any of the top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2514600" cy="220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48320" y="5334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he quiz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29600" y="5257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6095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endshow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ong answer !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y again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162920" y="4100400"/>
            <a:ext cx="1082520" cy="23004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8229600" y="5867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43"/>
                </a:moveTo>
                <a:lnTo>
                  <a:pt x="13376" y="6455"/>
                </a:lnTo>
                <a:lnTo>
                  <a:pt x="13376" y="4714"/>
                </a:lnTo>
                <a:lnTo>
                  <a:pt x="15152" y="4714"/>
                </a:lnTo>
                <a:lnTo>
                  <a:pt x="15152" y="8230"/>
                </a:lnTo>
                <a:lnTo>
                  <a:pt x="17763" y="10806"/>
                </a:lnTo>
                <a:lnTo>
                  <a:pt x="16109" y="10806"/>
                </a:lnTo>
                <a:lnTo>
                  <a:pt x="16109" y="17996"/>
                </a:lnTo>
                <a:lnTo>
                  <a:pt x="5491" y="17996"/>
                </a:lnTo>
                <a:lnTo>
                  <a:pt x="5491" y="10806"/>
                </a:lnTo>
                <a:lnTo>
                  <a:pt x="3837" y="10806"/>
                </a:lnTo>
                <a:close/>
              </a:path>
              <a:path fill="darkenLess" w="21600" h="21613">
                <a:moveTo>
                  <a:pt x="13376" y="6455"/>
                </a:moveTo>
                <a:lnTo>
                  <a:pt x="13376" y="4714"/>
                </a:lnTo>
                <a:lnTo>
                  <a:pt x="15152" y="4714"/>
                </a:lnTo>
                <a:lnTo>
                  <a:pt x="15152" y="8230"/>
                </a:lnTo>
                <a:close/>
              </a:path>
              <a:path fill="darkenLess" w="21600" h="21613">
                <a:moveTo>
                  <a:pt x="9877" y="14305"/>
                </a:moveTo>
                <a:lnTo>
                  <a:pt x="11723" y="14305"/>
                </a:lnTo>
                <a:lnTo>
                  <a:pt x="11723" y="17996"/>
                </a:lnTo>
                <a:lnTo>
                  <a:pt x="16109" y="17996"/>
                </a:lnTo>
                <a:lnTo>
                  <a:pt x="16109" y="10806"/>
                </a:lnTo>
                <a:lnTo>
                  <a:pt x="5491" y="10806"/>
                </a:lnTo>
                <a:lnTo>
                  <a:pt x="5491" y="17996"/>
                </a:lnTo>
                <a:lnTo>
                  <a:pt x="9877" y="1799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762120" y="609480"/>
            <a:ext cx="7694640" cy="4494240"/>
            <a:chOff x="762120" y="609480"/>
            <a:chExt cx="7694640" cy="4494240"/>
          </a:xfrm>
        </p:grpSpPr>
        <p:sp>
          <p:nvSpPr>
            <p:cNvPr id="189" name=""/>
            <p:cNvSpPr/>
            <p:nvPr/>
          </p:nvSpPr>
          <p:spPr>
            <a:xfrm>
              <a:off x="762120" y="609480"/>
              <a:ext cx="7694640" cy="4494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2120" y="1803960"/>
              <a:ext cx="769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Question 2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762120" y="609480"/>
            <a:ext cx="7694640" cy="4494240"/>
            <a:chOff x="762120" y="609480"/>
            <a:chExt cx="7694640" cy="4494240"/>
          </a:xfrm>
        </p:grpSpPr>
        <p:sp>
          <p:nvSpPr>
            <p:cNvPr id="194" name=""/>
            <p:cNvSpPr/>
            <p:nvPr/>
          </p:nvSpPr>
          <p:spPr>
            <a:xfrm>
              <a:off x="762120" y="609480"/>
              <a:ext cx="7694640" cy="4494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2120" y="1803960"/>
              <a:ext cx="769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Question 3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762120" y="609480"/>
            <a:ext cx="7694640" cy="4494240"/>
            <a:chOff x="762120" y="609480"/>
            <a:chExt cx="7694640" cy="4494240"/>
          </a:xfrm>
        </p:grpSpPr>
        <p:sp>
          <p:nvSpPr>
            <p:cNvPr id="199" name=""/>
            <p:cNvSpPr/>
            <p:nvPr/>
          </p:nvSpPr>
          <p:spPr>
            <a:xfrm>
              <a:off x="762120" y="609480"/>
              <a:ext cx="7694640" cy="4494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120" y="1803960"/>
              <a:ext cx="769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Question 4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62120" y="609480"/>
            <a:ext cx="7694640" cy="4494240"/>
            <a:chOff x="762120" y="609480"/>
            <a:chExt cx="7694640" cy="4494240"/>
          </a:xfrm>
        </p:grpSpPr>
        <p:sp>
          <p:nvSpPr>
            <p:cNvPr id="204" name=""/>
            <p:cNvSpPr/>
            <p:nvPr/>
          </p:nvSpPr>
          <p:spPr>
            <a:xfrm>
              <a:off x="762120" y="609480"/>
              <a:ext cx="7694640" cy="4494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120" y="1803960"/>
              <a:ext cx="769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Question 5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762120" y="609480"/>
            <a:ext cx="7694640" cy="4494240"/>
            <a:chOff x="762120" y="609480"/>
            <a:chExt cx="7694640" cy="4494240"/>
          </a:xfrm>
        </p:grpSpPr>
        <p:sp>
          <p:nvSpPr>
            <p:cNvPr id="209" name=""/>
            <p:cNvSpPr/>
            <p:nvPr/>
          </p:nvSpPr>
          <p:spPr>
            <a:xfrm>
              <a:off x="762120" y="609480"/>
              <a:ext cx="7694640" cy="4494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120" y="1803960"/>
              <a:ext cx="769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Question 6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762120" y="609480"/>
            <a:ext cx="7694640" cy="4494240"/>
            <a:chOff x="762120" y="609480"/>
            <a:chExt cx="7694640" cy="4494240"/>
          </a:xfrm>
        </p:grpSpPr>
        <p:sp>
          <p:nvSpPr>
            <p:cNvPr id="214" name=""/>
            <p:cNvSpPr/>
            <p:nvPr/>
          </p:nvSpPr>
          <p:spPr>
            <a:xfrm>
              <a:off x="762120" y="609480"/>
              <a:ext cx="7694640" cy="4494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120" y="1803960"/>
              <a:ext cx="769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Question 7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762120" y="609480"/>
            <a:ext cx="7694640" cy="4494240"/>
            <a:chOff x="762120" y="609480"/>
            <a:chExt cx="7694640" cy="4494240"/>
          </a:xfrm>
        </p:grpSpPr>
        <p:sp>
          <p:nvSpPr>
            <p:cNvPr id="219" name=""/>
            <p:cNvSpPr/>
            <p:nvPr/>
          </p:nvSpPr>
          <p:spPr>
            <a:xfrm>
              <a:off x="762120" y="609480"/>
              <a:ext cx="7694640" cy="4494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120" y="1803960"/>
              <a:ext cx="769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Question 8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152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st your knowledge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art Materia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3623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ach question carefully before choosing your answer. Try to get them right firs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733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A ‘Smart Material’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343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aterial that looks n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43434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aterial that changes when its environmen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4343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lever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838080" y="56386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7467480" y="55627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4191120" y="563868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62120" y="609480"/>
            <a:ext cx="7694640" cy="4494240"/>
            <a:chOff x="762120" y="609480"/>
            <a:chExt cx="7694640" cy="4494240"/>
          </a:xfrm>
        </p:grpSpPr>
        <p:sp>
          <p:nvSpPr>
            <p:cNvPr id="224" name=""/>
            <p:cNvSpPr/>
            <p:nvPr/>
          </p:nvSpPr>
          <p:spPr>
            <a:xfrm>
              <a:off x="762120" y="609480"/>
              <a:ext cx="7694640" cy="4494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20" y="1803960"/>
              <a:ext cx="769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Question 9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762120" y="609480"/>
            <a:ext cx="7696080" cy="4496040"/>
            <a:chOff x="762120" y="609480"/>
            <a:chExt cx="7696080" cy="4496040"/>
          </a:xfrm>
        </p:grpSpPr>
        <p:sp>
          <p:nvSpPr>
            <p:cNvPr id="229" name=""/>
            <p:cNvSpPr/>
            <p:nvPr/>
          </p:nvSpPr>
          <p:spPr>
            <a:xfrm>
              <a:off x="762120" y="609480"/>
              <a:ext cx="7696080" cy="44960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20" y="1805040"/>
              <a:ext cx="76960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Question 10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762120" y="609480"/>
            <a:ext cx="7696080" cy="4496040"/>
            <a:chOff x="762120" y="609480"/>
            <a:chExt cx="7696080" cy="4496040"/>
          </a:xfrm>
        </p:grpSpPr>
        <p:sp>
          <p:nvSpPr>
            <p:cNvPr id="234" name=""/>
            <p:cNvSpPr/>
            <p:nvPr/>
          </p:nvSpPr>
          <p:spPr>
            <a:xfrm>
              <a:off x="762120" y="609480"/>
              <a:ext cx="7696080" cy="44960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20" y="1805040"/>
              <a:ext cx="76960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Question 11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762120" y="609480"/>
            <a:ext cx="7694640" cy="4494240"/>
            <a:chOff x="762120" y="609480"/>
            <a:chExt cx="7694640" cy="4494240"/>
          </a:xfrm>
        </p:grpSpPr>
        <p:sp>
          <p:nvSpPr>
            <p:cNvPr id="239" name=""/>
            <p:cNvSpPr/>
            <p:nvPr/>
          </p:nvSpPr>
          <p:spPr>
            <a:xfrm>
              <a:off x="762120" y="609480"/>
              <a:ext cx="7694640" cy="4494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120" y="1803960"/>
              <a:ext cx="769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That’s correct !.</a:t>
              </a:r>
              <a:br>
                <a:rPr sz="4400"/>
              </a:b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Last question 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342200" y="2362320"/>
            <a:ext cx="1305000" cy="392256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39625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What is the proper name for smart material that changes colo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526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rmochromic 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352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rmographic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3352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rmopigment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4114800" y="4267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7162920" y="426708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914400" y="4267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) Which one of these is NOT a smart materia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lymor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2743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w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5909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nticular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685800" y="34290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7391520" y="34290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4191120" y="34290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16765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) What do these materials have in common ?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ss, Nitinol, Solder, Bronze &amp; Pew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8098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y are all smart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8098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y are all pure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3886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y are all al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14800" y="48769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990720" y="487692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7238880" y="48769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) The letter ‘S.M.A.’ stand f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1240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mart Material Al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31240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hape Memory Al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1240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mart Metal Acti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43434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4038480" y="43434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38080" y="43434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16765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) Which part of a smart controller contains the smart materia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3809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circuit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053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integrated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7339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bat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114800" y="47242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315200" y="47242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1066680" y="4800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) Which one of these smart materials is spelt correctl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6668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nticolour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724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urmochromic 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lymor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438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hape memory a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762120" y="358128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5029200" y="3657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2590920" y="556272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7010280" y="54864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402" h="21600">
                <a:moveTo>
                  <a:pt x="12806" y="14281"/>
                </a:moveTo>
                <a:lnTo>
                  <a:pt x="12806" y="12323"/>
                </a:lnTo>
                <a:cubicBezTo>
                  <a:pt x="12806" y="11496"/>
                  <a:pt x="13137" y="10800"/>
                  <a:pt x="13738" y="10800"/>
                </a:cubicBezTo>
                <a:cubicBezTo>
                  <a:pt x="14869" y="10800"/>
                  <a:pt x="15766" y="9434"/>
                  <a:pt x="15766" y="7849"/>
                </a:cubicBezTo>
                <a:cubicBezTo>
                  <a:pt x="15766" y="5534"/>
                  <a:pt x="13912" y="3794"/>
                  <a:pt x="11701" y="3794"/>
                </a:cubicBezTo>
                <a:cubicBezTo>
                  <a:pt x="9490" y="3794"/>
                  <a:pt x="7819" y="5534"/>
                  <a:pt x="7819" y="7849"/>
                </a:cubicBezTo>
                <a:lnTo>
                  <a:pt x="9673" y="7849"/>
                </a:lnTo>
                <a:cubicBezTo>
                  <a:pt x="9673" y="6709"/>
                  <a:pt x="10596" y="5821"/>
                  <a:pt x="11701" y="5821"/>
                </a:cubicBezTo>
                <a:cubicBezTo>
                  <a:pt x="12806" y="5821"/>
                  <a:pt x="13738" y="6709"/>
                  <a:pt x="13738" y="7849"/>
                </a:cubicBezTo>
                <a:cubicBezTo>
                  <a:pt x="13738" y="8589"/>
                  <a:pt x="13268" y="9320"/>
                  <a:pt x="12806" y="9320"/>
                </a:cubicBezTo>
                <a:cubicBezTo>
                  <a:pt x="11701" y="9320"/>
                  <a:pt x="10596" y="10800"/>
                  <a:pt x="10596" y="12323"/>
                </a:cubicBezTo>
                <a:lnTo>
                  <a:pt x="10596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 Tin College</cp:lastModifiedBy>
  <dcterms:modified xsi:type="dcterms:W3CDTF">2007-11-19T11:22:48Z</dcterms:modified>
  <cp:revision>25</cp:revision>
  <dc:subject/>
  <dc:title>Smart materials.</dc:title>
</cp:coreProperties>
</file>